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1B7-ACBB-48BB-A23E-DBEB8358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860-B247-429B-BB2E-CCCC8009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579-36A0-47D0-A9C7-C0F86518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3B4-B8BB-4535-A839-1E3A39D0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4517-D75B-440F-8281-69F493E7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7C49-2439-4811-9AB4-68DFBF33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397C-C31B-4B6B-9517-3D688996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5588-35A5-47DF-904E-5F9B4220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DAD5-751D-461B-B11D-8ED31C0C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C04A-9F45-4582-999E-A7A12BAC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3D86-552A-4ECC-B2DC-A2A71EC0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037-63AA-408A-AEE3-1609000C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A9AC-25D6-47AA-8BE7-280DB9E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B0CD-3D37-4F06-B9AF-14028FFE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92F7-7F1F-4231-A3DC-858BA8A0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7F20-302E-4D7D-9B79-4C94CC5F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90C7-F3F2-475E-824C-C9271996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AD6-43DB-431F-91FD-30C921B2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DD0-5918-4E57-B27A-80037FF4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E74-F3C8-4655-857E-A4E2B00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0A9-54A2-4928-939F-E40861C5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E52-D48B-4A03-B9DE-43FA8EDB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4CA-C15D-47ED-BA7E-4673820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3E1-26A1-4467-A38A-F9652A3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625-EDA5-4C57-8775-2008A5A355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373F-B007-4EAE-A60F-D4111D3837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Усвоение сенсорных эталонов детьми раннего возраст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вет-велич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 этап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езко контрастные величины (большой – маленький), формы (шар – куб), цвета (красный – зеленый, синий-оранжевый, чёрный - жёлтый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2 этап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тем близких (красный-оранжевый, оранжевый – жёлтый, жёлтый – зелёный…) цвет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Методы обуч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каз образца с объяснением последовательности действий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полнение действий рукой ребенк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полнение действий по словесной инструкции (- Дай такой же, - Дай красного цвета, - Какого цвета эта игрушк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3276720" y="321300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3794"/>
                </a:moveTo>
                <a:lnTo>
                  <a:pt x="25534" y="10800"/>
                </a:lnTo>
                <a:lnTo>
                  <a:pt x="1152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Эмоциональная подача материа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роцесс восприятия (рассматривания, вслушивания) надо сопровождать словом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ощрять проявление самостоятельности в рассматривании предметов, выделении их свойств, стремление поделиться своими впечатлениями с детьми и взрослы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mic Sans MS"/>
              </a:rPr>
              <a:t>Последовательность обследования предметов: (Н.П.Сакулина)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сприятие целостного облика предметов (Что это?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ленение основных частей обследуемого предмета и определение их свойств (формы, величины и др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пределение пространственных взаимоотношений частей относительно друг друга (выше, ниже, справа, слев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ленение более мелких частей предмета и установление их пространственного расположения по отношению к основным частя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вторное целостное восприятие предме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едует включать движения обеих рук по предмету и его частям (поочередно) – его «обрисовывание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 восприятия (обследования) с целью разностороннего познания предмета «Любое движение, прежде чем будет произведено во внешнем плане, совершается в голове» (И.М.Сечен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2:42:10Z</dcterms:created>
  <dc:creator>raven</dc:creator>
  <dc:description/>
  <dc:language>en-US</dc:language>
  <cp:lastModifiedBy>raven</cp:lastModifiedBy>
  <dcterms:modified xsi:type="dcterms:W3CDTF">2009-09-24T13:28:06Z</dcterms:modified>
  <cp:revision>3</cp:revision>
  <dc:subject/>
  <dc:title>усвоение сенсорных эталонов детьми раннего возраста</dc:title>
</cp:coreProperties>
</file>